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png" ContentType="image/png"/>
  <Override PartName="/ppt/media/image1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2CEF-AB00-40C7-B8ED-24AF8CBE9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27F4-3037-4B58-B894-E69F957F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486D-A367-4CA5-AC20-CFF6FD6B5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2D86-EACD-487A-8002-59973D7FC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ED6F-17D0-4EE5-B3C4-2D3F0E1F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6A56-409F-4D8D-ADF4-25E4049D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6B71-C53B-4F8C-8DB9-2CB72D78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80A6-ACA7-47DB-85B5-38F086B8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8ACC-EB16-4178-B499-CCECEC3E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4692-4015-43B9-A266-6211BF70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A71E-7415-4003-A3BF-57576465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AB05-81EE-45BA-B1DC-1F604163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2B18-CE67-4DBC-9067-9D6881CFC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71640" y="450864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КОНФИГУРАЦИЯ «ГИБКИЙ ГРАФИК» </a:t>
            </a:r>
            <a:br>
              <a:rPr sz="2000"/>
            </a:b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НА ПЛАТФОРМЕ 1С:ПРЕДПРИЯТИЕ 8.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5856120"/>
            <a:ext cx="720072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-10000">
                <a:solidFill>
                  <a:srgbClr val="993300"/>
                </a:solidFill>
                <a:latin typeface="Times New Roman"/>
              </a:rPr>
              <a:t>Космачев Серг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10000">
                <a:solidFill>
                  <a:srgbClr val="993300"/>
                </a:solidFill>
                <a:latin typeface="Times New Roman"/>
              </a:rPr>
              <a:t>E-mail: </a:t>
            </a:r>
            <a:r>
              <a:rPr b="1" lang="ru-RU" sz="2400" spc="-1" strike="noStrike" baseline="-10000">
                <a:solidFill>
                  <a:srgbClr val="993300"/>
                </a:solidFill>
                <a:latin typeface="Times New Roman"/>
              </a:rPr>
              <a:t>1с</a:t>
            </a:r>
            <a:r>
              <a:rPr b="1" lang="en-US" sz="2400" spc="-1" strike="noStrike" baseline="-10000">
                <a:solidFill>
                  <a:srgbClr val="993300"/>
                </a:solidFill>
                <a:latin typeface="Times New Roman"/>
              </a:rPr>
              <a:t>@immf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-10000">
                <a:solidFill>
                  <a:srgbClr val="993300"/>
                </a:solidFill>
                <a:latin typeface="Times New Roman"/>
              </a:rPr>
              <a:t>АОНО ВПО «Институт менеджмента, маркетинга и финанс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6309" r="0" b="56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5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2000160"/>
          <a:ext cx="9134640" cy="48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00160"/>
                    <a:ext cx="913464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324000" y="333360"/>
            <a:ext cx="844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ибкость подхода к процессу редактирования занятий и учета часов в моей программе обусловлена полной независимостью структуры табличной формы редактора расписания от структуры прикладных объектов базы данных 1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рият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основное направление проделанной мной раб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10:33:25Z</dcterms:created>
  <dc:creator>Free Artist</dc:creator>
  <dc:description/>
  <dc:language>en-US</dc:language>
  <cp:lastModifiedBy>Free Artist</cp:lastModifiedBy>
  <dcterms:modified xsi:type="dcterms:W3CDTF">2008-01-27T13:07:22Z</dcterms:modified>
  <cp:revision>9</cp:revision>
  <dc:subject/>
  <dc:title>Слайд 1</dc:title>
</cp:coreProperties>
</file>