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7417E-DC54-437C-9DAE-C5257D8DB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8F27-AA1A-47CB-A3CA-4B50FF51D6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1FA0-30F5-4125-8299-A0A723968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B0E52-D1CF-41EF-B7C0-257770ACD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530D9-8BF8-4CEF-BA95-1253E325B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21FD2-90DB-4019-A53A-97ABCDE6D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69C3-F491-429F-A134-C83A05168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A6BE1-3282-43AC-8FD2-4BA48FEED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5FD33-DE8A-41DA-ACA1-0952454BF0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AD58-A268-4FC8-B81C-3C8DA23A44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8684C-A2D7-4CA3-B7B4-3B1A4E308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69CB6-5BFB-4EDD-99E5-47AB742FC5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93F22-5D82-4241-BED0-6634DAADA2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103D-D721-406E-896E-3D0690D2A8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2DF9-73B7-42F0-9BA3-15A9433AE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2E677-DFD0-4CC7-8B14-7F3508294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A457-FF91-4567-870E-AEA71845D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91CA7-CBDF-4FC6-8581-08809B1C45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1800-8806-47B6-A0ED-AACF81971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94E4D-33DE-412F-AEB5-F09A2135C0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8A9B1-3084-4AB9-BEBE-C41A62FC5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FD0C9-3E49-4DC3-8402-72D29D25F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18497-5199-456A-B062-DEFC627206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413C-6A84-4130-95E8-6606B6FACC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324-D883-4948-A8ED-6E4C2FDA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56400"/>
            <a:ext cx="822816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FD4-F0F4-4A81-AFB9-24B45AC2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5640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05640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F8C-BAD4-4B47-BF51-0C103C0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5640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05640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056400"/>
            <a:ext cx="264924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3B9-7825-418D-A6CA-DFE224C8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E18-AB34-4334-97F3-497F0D5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FF2-5F8B-4D63-9849-4F920F59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ACE-289C-4804-9471-DC546D2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EBF-5419-4B47-8A12-C76B6318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DEA-1D61-43C0-A7EF-B8D5C91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5640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2FB-4F82-4FE0-9CD0-344A65A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05640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210-DC80-4C63-8917-914B86E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56400"/>
            <a:ext cx="8228160" cy="169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5C8-4474-482B-AACF-1576C12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2000"/>
          </a:bodyPr>
          <a:p>
            <a:pPr marL="2811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6120"/>
            <a:ext cx="21286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4686120"/>
            <a:ext cx="28972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4686120"/>
            <a:ext cx="212904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E81699-34F1-464B-9CA2-B116A968C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support@infostart.ru" TargetMode="External"/><Relationship Id="rId2" Type="http://schemas.openxmlformats.org/officeDocument/2006/relationships/hyperlink" Target="http://www.o-system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5480" y="1455840"/>
            <a:ext cx="7075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261040" y="2556000"/>
            <a:ext cx="3628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Times New Roman"/>
              </a:rPr>
              <a:t>Комплект сервисных об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687840" y="770040"/>
            <a:ext cx="52880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общие настрой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19040" y="1035000"/>
            <a:ext cx="3600360" cy="2422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9760" y="1058760"/>
            <a:ext cx="4014720" cy="7876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осле активации программного продукта будет открыта стартовая стра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919760" y="1913040"/>
            <a:ext cx="4014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Выполняется первоначальная настройка загрузчика. Форма настройки позволяет управлять загрузкой информации из отдельных файлов обмена, а также изменять параметры, влияющие на проведение конвер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55480" y="1325520"/>
            <a:ext cx="360072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750960" y="1587600"/>
            <a:ext cx="360036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каталог, настройка синхронизации, отб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4920" y="1206360"/>
            <a:ext cx="44179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еред загрузкой пользователь может определить список организаций и физических лиц, сведения о которых необходимо загру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30280" y="1158840"/>
            <a:ext cx="3600360" cy="24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717480" y="2136600"/>
            <a:ext cx="3600360" cy="2430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444920" y="2365200"/>
            <a:ext cx="4417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и необходимости можно изменить способ синхронизации справочника «Физические лиц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чтение файлов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2520" y="1244520"/>
            <a:ext cx="3959280" cy="266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73520" y="1203480"/>
            <a:ext cx="40147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Обработка последовательно считывает информацию из отмеченных пользователем файлов обмена по выбранным организациям и физическим ли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очитанные данные загружаются в табличные части загрузчика</a:t>
            </a: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права дост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19040" y="1244520"/>
            <a:ext cx="4014720" cy="2710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73160" y="1203120"/>
            <a:ext cx="42577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Физическому лицу может быть назначена группа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Физические лица, имеющие разные группы доступа, будут переноситься в разные доку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контроль пересечения пери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01480" y="1258920"/>
            <a:ext cx="4015080" cy="2703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73520" y="1203120"/>
            <a:ext cx="40147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онтролируются ошибки при приеме на работу в определении вида занят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Имеется возможность автоматического исправления и отказа от исправления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выбор видов у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73040" y="1195560"/>
            <a:ext cx="4014720" cy="2725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73520" y="1203120"/>
            <a:ext cx="40147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Определяются виды учета, по которым будет конвертироваться информ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Настраивается валюта и курсы валюты управленческого учета   (если выбран управленческий уч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настройка соответств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52440" y="830160"/>
            <a:ext cx="3959280" cy="987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38160" y="840960"/>
            <a:ext cx="438948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Выполняется сопоставление объектов информационных баз. Сопоставляются все основные справочники и элементы планов видов ра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Возможен автоматический поиск соответствий либо автоматическое формирование объектов соответ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52440" y="979560"/>
            <a:ext cx="3959280" cy="95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352440" y="1114560"/>
            <a:ext cx="3959280" cy="138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352440" y="1300320"/>
            <a:ext cx="3959280" cy="1191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5"/>
          <a:stretch/>
        </p:blipFill>
        <p:spPr>
          <a:xfrm>
            <a:off x="352440" y="1428840"/>
            <a:ext cx="3959280" cy="267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6"/>
          <a:stretch/>
        </p:blipFill>
        <p:spPr>
          <a:xfrm>
            <a:off x="352440" y="1554120"/>
            <a:ext cx="395928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7"/>
          <a:stretch/>
        </p:blipFill>
        <p:spPr>
          <a:xfrm>
            <a:off x="352440" y="1704960"/>
            <a:ext cx="3959280" cy="267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8"/>
          <a:stretch/>
        </p:blipFill>
        <p:spPr>
          <a:xfrm>
            <a:off x="352440" y="1839960"/>
            <a:ext cx="3959280" cy="267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9"/>
          <a:stretch/>
        </p:blipFill>
        <p:spPr>
          <a:xfrm>
            <a:off x="352440" y="1989000"/>
            <a:ext cx="3959280" cy="2675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10"/>
          <a:stretch/>
        </p:blipFill>
        <p:spPr>
          <a:xfrm>
            <a:off x="352440" y="2124000"/>
            <a:ext cx="395928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параметры обработк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73520" y="1203480"/>
            <a:ext cx="40147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Определяется способ формирования кадров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Определяется способ ведения взаиморасчетов с сотруд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и необходимости подключаются обработки, расширяющие штатный функцион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03280" y="1227240"/>
            <a:ext cx="3959280" cy="27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настройка параметров у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26960" y="1189080"/>
            <a:ext cx="4014720" cy="2706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73520" y="1203480"/>
            <a:ext cx="40147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ервоначальные настройки учетных политик уже выполнены, часть данных заполнена значениями по умолчанию, оставшиеся — из настроек исто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и необходимости параметры учета могут быть изменены. Изменения будут учтены при формировании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Загрузка данных: конвертация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73520" y="1203480"/>
            <a:ext cx="40147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Объекты, в соответствии с произведенными настройками, записываются в информационную б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35040" y="1231920"/>
            <a:ext cx="3600360" cy="23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359080" y="0"/>
            <a:ext cx="6713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800" y="4982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Особенности программного проду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1440" y="1147680"/>
            <a:ext cx="832356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едназначен для перехода на использование типовых конфигураций фирмы «1С» по расчету заработной платы и кадровому уч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Может использоваться небольшими организациями и крупными холдин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озволяет пользователю управлять процессом перехода, предоставляя возможность гибкой визуальной настройки проведения конвертации и сопоставления объектов информационных б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Не требует специальных знаний для проведения конвертации, может использоваться как IT-специалистами, так и опытными пользова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Требует минимальных затрат времени и сил на проведение конвер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Не имеет ана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284720" y="4782960"/>
            <a:ext cx="3809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Рекомендуемые для пользователя действия после конвер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заполнения регламентированного производственного календар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проведения кадровых докумен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настроек элементов планов видов расче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проведения расчетных докумен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проведения документов расчета страховых взно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Ввод документов «Отпуск по уходу за ребенком» и кадровых документов, регистрирующих неяв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заполнения и проведение документов ввода плановых начислений и удержа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</a:rPr>
              <a:t>Проверка корректности перенесенных данных с помощью отчета «Расчетная ведомость в произвольной форме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6120" y="295200"/>
            <a:ext cx="36165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Варианты поставки и це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97000" y="601560"/>
          <a:ext cx="8569080" cy="3098880"/>
        </p:xfrm>
        <a:graphic>
          <a:graphicData uri="http://schemas.openxmlformats.org/drawingml/2006/table">
            <a:tbl>
              <a:tblPr/>
              <a:tblGrid>
                <a:gridCol w="2652480"/>
                <a:gridCol w="1479600"/>
                <a:gridCol w="1481040"/>
                <a:gridCol w="1479600"/>
                <a:gridCol w="1476360"/>
              </a:tblGrid>
              <a:tr h="343080">
                <a:tc rowSpan="2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онфигурация-ист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онфигурация-прием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1С:Зарплата и Управление персона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1С:Зарплата и Кадры бюджет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1С:Управление производственным предприят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1С:Комплексная автомат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амин:Расчет зарплаты 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272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амин:Расчет зарплаты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592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амин:Расчет зарплаты 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592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амин:Расчет зарплаты 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55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Камин:Зарплата для бизнеса 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333366"/>
                          </a:solidFill>
                          <a:latin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18"/>
          <p:cNvSpPr/>
          <p:nvPr/>
        </p:nvSpPr>
        <p:spPr>
          <a:xfrm>
            <a:off x="312840" y="3767040"/>
            <a:ext cx="8570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Times New Roman"/>
              </a:rPr>
              <a:t>Срок бесплатного периода технической поддержки на все продукты, составляет три месяца с момента приобрет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Times New Roman"/>
              </a:rPr>
              <a:t>Если среди вариантов поставки нет того, который нужен Вам (несколько программ-источников или приемников), Вы можете заказать индивидуальный вариант комплекта пост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Продление периода технической поддерж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11120" y="998640"/>
            <a:ext cx="84312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В течение двух месяцев после завершения периода бесплатной технической поддержки, Вы можете приобрести  продление технической поддержки за 25% от стоимости продукта. Срок технической поддержки продляется ровно на один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333366"/>
                </a:solidFill>
                <a:latin typeface="Times New Roman"/>
              </a:rPr>
              <a:t>Техническая поддержка включает в себ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333366"/>
                </a:solidFill>
                <a:latin typeface="Times New Roman"/>
                <a:ea typeface="Lucida Sans Unicode"/>
              </a:rPr>
              <a:t>Получение новых версий обработок комплек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333366"/>
                </a:solidFill>
                <a:latin typeface="Times New Roman"/>
                <a:ea typeface="Lucida Sans Unicode"/>
              </a:rPr>
              <a:t>Консультации по использованию программного продук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Наши координа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84132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Телефон: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800-5555-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mail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pport@infostar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Сайт:</a:t>
            </a:r>
            <a:r>
              <a:rPr b="0" lang="en-US" sz="3200" spc="-1" strike="noStrike">
                <a:solidFill>
                  <a:srgbClr val="0047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infostart.ru/store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359080" y="0"/>
            <a:ext cx="6713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4982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Особенности программного проду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440" y="1193760"/>
            <a:ext cx="83235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озволяет выполнить переход в любое время отчетного периода, предоставляя возможность получать все необходимые регламентированные от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ограммный продукт существует с 2007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оложительные отзывы со стороны пользов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buClr>
                <a:srgbClr val="c5000b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В настоящее время поддерживается переход с зарплатных решений фирмы «Камин». В будущем планируется расширять круг программ-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20880" y="4782960"/>
            <a:ext cx="3810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359080" y="0"/>
            <a:ext cx="671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1800" y="7621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Конфигурации: источники и прием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20880" y="4782960"/>
            <a:ext cx="3810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6080" y="1182600"/>
            <a:ext cx="5202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3840" y="1582560"/>
            <a:ext cx="84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амин:Расчет заработной платы. Версия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амин:Расчет заработной платы. Версия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амин:Расчет заработной платы. Версия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амин:Расчет заработной платы для бюджетных учреждений. Версия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Камин:Зарплата для бизнеса. Версия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95200" y="3009960"/>
            <a:ext cx="5202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ием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74760" y="3340080"/>
            <a:ext cx="70610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1С:Зарплата и Управление персоналом (ПРОФ и КОР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1С:Зарплата и Кадры бюджет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1С:Управление производственным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304560">
              <a:lnSpc>
                <a:spcPct val="95000"/>
              </a:lnSpc>
              <a:buClr>
                <a:srgbClr val="c5000b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1С:Комплексная авто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1800" y="7621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Этапы пере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325440" y="1127160"/>
            <a:ext cx="7629480" cy="1022400"/>
            <a:chOff x="325440" y="1127160"/>
            <a:chExt cx="7629480" cy="1022400"/>
          </a:xfrm>
        </p:grpSpPr>
        <p:sp>
          <p:nvSpPr>
            <p:cNvPr id="69" name="AutoShape 4"/>
            <p:cNvSpPr/>
            <p:nvPr/>
          </p:nvSpPr>
          <p:spPr>
            <a:xfrm>
              <a:off x="328680" y="1336680"/>
              <a:ext cx="7626240" cy="81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45000" anchor="ctr">
              <a:noAutofit/>
            </a:bodyPr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Предварительная проверка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Выгрузка в каталог обм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325440" y="1127160"/>
              <a:ext cx="2390760" cy="30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336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652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Выгрузка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"/>
          <p:cNvGrpSpPr/>
          <p:nvPr/>
        </p:nvGrpSpPr>
        <p:grpSpPr>
          <a:xfrm>
            <a:off x="333360" y="2189160"/>
            <a:ext cx="7629120" cy="1017720"/>
            <a:chOff x="333360" y="2189160"/>
            <a:chExt cx="7629120" cy="1017720"/>
          </a:xfrm>
        </p:grpSpPr>
        <p:sp>
          <p:nvSpPr>
            <p:cNvPr id="72" name="AutoShape 7"/>
            <p:cNvSpPr/>
            <p:nvPr/>
          </p:nvSpPr>
          <p:spPr>
            <a:xfrm>
              <a:off x="334800" y="2392200"/>
              <a:ext cx="7627680" cy="81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45000" anchor="ctr">
              <a:noAutofit/>
            </a:bodyPr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Настройка параметров конвер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Загрузка данных и настройка соответствий объектов информационных ба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Проведение конвер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33360" y="2189160"/>
              <a:ext cx="2391120" cy="30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663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652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Загрузка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9"/>
          <p:cNvGrpSpPr/>
          <p:nvPr/>
        </p:nvGrpSpPr>
        <p:grpSpPr>
          <a:xfrm>
            <a:off x="339840" y="3254400"/>
            <a:ext cx="7627680" cy="1023480"/>
            <a:chOff x="339840" y="3254400"/>
            <a:chExt cx="7627680" cy="1023480"/>
          </a:xfrm>
        </p:grpSpPr>
        <p:sp>
          <p:nvSpPr>
            <p:cNvPr id="75" name="AutoShape 10"/>
            <p:cNvSpPr/>
            <p:nvPr/>
          </p:nvSpPr>
          <p:spPr>
            <a:xfrm>
              <a:off x="341280" y="3463920"/>
              <a:ext cx="7626240" cy="81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45000" anchor="ctr">
              <a:noAutofit/>
            </a:bodyPr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Проверка корректности перенесенных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>
                <a:lnSpc>
                  <a:spcPct val="95000"/>
                </a:lnSpc>
                <a:buClr>
                  <a:srgbClr val="4b1f6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333366"/>
                  </a:solidFill>
                  <a:latin typeface="Times New Roman"/>
                </a:rPr>
                <a:t>Первоначальная настройка программы (учетные политики, планы видов расчета и пр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1"/>
            <p:cNvSpPr/>
            <p:nvPr/>
          </p:nvSpPr>
          <p:spPr>
            <a:xfrm>
              <a:off x="339840" y="3254400"/>
              <a:ext cx="2390760" cy="30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2746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652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Начало ведения уч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652320" y="1244520"/>
            <a:ext cx="3600720" cy="252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14480" y="2243160"/>
            <a:ext cx="3600360" cy="2354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Выгрузка данных: общие настрой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1203120"/>
            <a:ext cx="401472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66"/>
                </a:solidFill>
                <a:latin typeface="Times New Roman"/>
              </a:rPr>
              <a:t>Выбирается период проведения конвер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66"/>
                </a:solidFill>
                <a:latin typeface="Times New Roman"/>
              </a:rPr>
              <a:t>Определяется каталог об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871880" y="2901960"/>
            <a:ext cx="381636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Кадровые документы выгружаются за весь период ведения учета в прогр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В один каталог могут выгружаться сведения по нескольким организ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Выгрузка данных: разделы у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83040" y="2492280"/>
            <a:ext cx="40500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5000"/>
          </a:bodyPr>
          <a:p>
            <a:pPr marL="3258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 версии для «Камин:Расчет заработной платы 3.0» разделы учета необходимо определить для каждой организации, участвующей в обм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о умолчанию к выгрузке отмечены все разде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61000" y="1146240"/>
            <a:ext cx="4049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Уточняются разделы учета, сведения по которым будут выгружаться в файлы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19040" y="1011240"/>
            <a:ext cx="3600360" cy="24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565200" y="1233360"/>
            <a:ext cx="3600360" cy="241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746280" y="1424160"/>
            <a:ext cx="3600360" cy="24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1004760" y="1652760"/>
            <a:ext cx="360072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Выгрузка данных: отборы и провер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6040" y="1065240"/>
            <a:ext cx="464508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Можно задействовать различные варианты отборов для ограничения объема выгружаемой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92240" y="1133640"/>
            <a:ext cx="3600360" cy="235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406440" y="1546200"/>
            <a:ext cx="3600360" cy="235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06600" y="1860480"/>
            <a:ext cx="360036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4316400" y="2160720"/>
            <a:ext cx="4645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и наличии ошибок в таких реквизитах как ФИО, ИНН и дата рождения, открывается диалоговое окно, где пользователю предлагается внести необходимые коррект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554360" y="3827520"/>
            <a:ext cx="4407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 версии для «Камин:Расчет заработной платы 3.0» эти этапы объеди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359080" y="0"/>
            <a:ext cx="671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08019"/>
                </a:solidFill>
                <a:latin typeface="Times New Roman"/>
              </a:rPr>
              <a:t>Помощник перехода на использование подсистем расчета заработной платы и кадрового учета в прикладных решениях фирмы «1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Процесс выгруз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50720" y="876240"/>
            <a:ext cx="3600720" cy="2354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1440" y="860040"/>
            <a:ext cx="40147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Данные могут быть выгружены повторно. В этом случае выполняется проверка на повторную выгрузку с возможностью выборочной очистки файлов обмена по 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66"/>
                </a:solidFill>
                <a:latin typeface="Times New Roman"/>
              </a:rPr>
              <a:t>Производится запись информации в файлы обмена. Все этапы процесса выгрузки отображаются с помощью индик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28560" y="1390680"/>
            <a:ext cx="360072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08:47Z</dcterms:created>
  <dc:creator>Владислав Томашевич</dc:creator>
  <dc:description/>
  <dc:language>en-US</dc:language>
  <cp:lastModifiedBy>User</cp:lastModifiedBy>
  <dcterms:modified xsi:type="dcterms:W3CDTF">2012-04-17T10:21:18Z</dcterms:modified>
  <cp:revision>122</cp:revision>
  <dc:subject/>
  <dc:title>Помощник перехода на использование подсистем расчета заработной платы и кадрового учета в прикладных решениях фирмы «1С»</dc:title>
</cp:coreProperties>
</file>